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4C4-DA9F-47EC-9669-9952B0BE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EC9-3636-4C11-868D-21B55A8B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C0E-C229-4BA0-AF7D-CCC512A5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5E7-789C-44A9-AD3B-92F93F16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407-E5D4-483E-AF0B-043650F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6BD-754D-41D0-8D11-0371BEA7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953-19D3-4591-8F5B-96F1C20C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F41-38B5-42F8-AF6E-028353E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08D-F96D-48D2-B775-EBAC67A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9CD-E1A7-4986-BD9F-98EFBA5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CC2-5CED-4C1D-B99C-4036AC40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328-0628-4C28-A8D0-079B045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75DB-5469-41A3-8CA4-DA39100B0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ORE                                CRAIGMORE                               CRAIGMORE                                DUNOON  ARGYLL                        DUNOON  ARGYLL                           DUNOON  ARGYLL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T  MATILDA                             GOUROCK                                        GOUROCK                                           GOUROCK                                GOUROCK  100TH                         GOUROCK  PARK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UROCK  PARK                        GOUROCK  PARK                     GOUROCK  PARK  50TH                     GOUROCK  PARK  75TH             GREENOCK  VICTORIA                    GREENOCK  VICTOR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VENOR                                 GROSVENOR                                  GROSVENOR                                       GROSVENOR                          GROSVENOR  150TH                                    HILLEND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333360"/>
            <a:ext cx="11160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97600" y="333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93240" y="33336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04640"/>
            <a:ext cx="969840" cy="9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1800" y="2060640"/>
            <a:ext cx="106056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73240" y="1844640"/>
            <a:ext cx="9874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73360"/>
            <a:ext cx="98748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68880" y="1773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08880" y="1557360"/>
            <a:ext cx="11332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21600" y="2205000"/>
            <a:ext cx="100188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5002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5168880" y="3500280"/>
            <a:ext cx="106056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537240" y="328464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121600" y="3357720"/>
            <a:ext cx="120672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102384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013360"/>
            <a:ext cx="109692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08464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26596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084640"/>
            <a:ext cx="106056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50028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214488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608880" y="5013360"/>
            <a:ext cx="117792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3513240" y="3284640"/>
            <a:ext cx="123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1:24:07Z</dcterms:created>
  <dc:creator>JOHN YOUNG</dc:creator>
  <dc:description/>
  <dc:language>en-US</dc:language>
  <cp:lastModifiedBy>JY</cp:lastModifiedBy>
  <cp:lastPrinted>2000-05-09T17:32:06Z</cp:lastPrinted>
  <dcterms:modified xsi:type="dcterms:W3CDTF">2007-10-19T13:49:31Z</dcterms:modified>
  <cp:revision>35</cp:revision>
  <dc:subject/>
  <dc:title>No Slide Title</dc:title>
</cp:coreProperties>
</file>